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AB3B-008B-46ED-88CE-2EB7FC77F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C97E-4AAB-4AFE-A988-667CF7679F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A33A-BCC8-4422-B00E-2AB637FBC3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9401-23B8-4154-AA37-4419FC3488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ED20-C77D-4BAB-82F3-42F4B90D6A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63B6-6083-4501-B4E6-F66F1F12C9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B908-838E-4B74-8922-C4FB390368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0F8F-3E62-4ED9-A757-7B7CE86696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FCFD-C412-4DE1-9154-F2FDDEBB8C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6B05-3A7C-4BFC-B2D1-C4239E65B5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1EE0-A9DF-4594-91F9-6FF2CF8102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DD5D-DE3D-4531-84CB-4891A8F333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4003-207E-4595-B6DC-275744A17B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456F-59F0-484A-96A7-562BAB9132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0C98-CB94-4B8F-AE4C-4D8B915B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8C8-430D-470C-87A9-AD85FDFC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00D-6C41-4F10-964D-D281AB1D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52C7-24DF-42EF-82C5-A4DEE531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878C-4181-4B17-A354-F2B26D96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42DB-CF61-4D13-B4DC-D0AFC483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DDFE-5CA8-4D0F-8ADF-4C4F3C2E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7449-C239-4D15-9146-3B930614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196F-50CA-43E8-A24D-DD390E91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66E5-F145-401A-8AB2-9EB1A7BF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1802-5849-4568-A691-A1688D8C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8487-9B41-47E0-80F3-6CCC644F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F87A-B8B6-45E3-BFDF-67BE711E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98CF-9327-4995-9653-9F2F07B0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561E-CE79-4292-AD94-9B1D66DA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CEEF-83D5-4843-BB51-31281475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5436-309C-4653-9FD8-D84F2C01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6E9-01FA-4FB9-9C59-2C3D902C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2C6-A071-4655-A96E-CBBE2364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223E-4660-49E7-BBCF-C564F016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4964-90E3-475D-9C94-D0F9684A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2E3F-556B-49A2-A2BD-AFF2E529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023-D6F4-4A68-A58A-67DC18AD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D8CA-61B2-46D6-9BEA-562DA849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2d2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2d2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2d2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2d2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2d2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1CD3-037B-4CDD-A08B-FBB7FC2FE20D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2d2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2d2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2d2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2d2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2d2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2d2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078D-EEEE-4856-944B-F19DB14509B8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hemistry 1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oichiometry Reality I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cent Y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ample Percent Yield Ques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termine the theoretical yield of a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1) Balanced reaction equ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 A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s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+  3 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g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2 Al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oles of each reacta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228600" y="4038480"/>
                <a:ext cx="85345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l Al = mass Al </m:t>
                    </m:r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g </m:t>
                    </m:r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g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52 mol A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8"/>
              <p:cNvSpPr txBox="1"/>
              <p:nvPr/>
            </p:nvSpPr>
            <p:spPr>
              <a:xfrm>
                <a:off x="250920" y="5181480"/>
                <a:ext cx="85708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ol 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= mass 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g </m:t>
                    </m:r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g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6594 mol 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ample Percent Yield Ques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etermine the theoretical yield of a re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3) Limiting reacta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is the limiting reactant, we predict a theoretical yield of 0.4396 mol of Al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 Narrow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hich translates into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304920" y="2590920"/>
                <a:ext cx="85341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ol AlC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mol Al </m:t>
                    </m:r>
                    <m:r>
                      <m:t xml:space="preserve">´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 AlC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 A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52 mol Al </m:t>
                    </m:r>
                    <m:r>
                      <m:t xml:space="preserve">´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 AlC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 A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5752 mol AlC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7"/>
              <p:cNvSpPr txBox="1"/>
              <p:nvPr/>
            </p:nvSpPr>
            <p:spPr>
              <a:xfrm>
                <a:off x="304920" y="3429000"/>
                <a:ext cx="85881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ol AlC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= mol 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´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 AlC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 C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6594 mol 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´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 AlC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 C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396 mol AlC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457200" y="5319720"/>
                <a:ext cx="83818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ss AlC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= mol AlC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mo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96 mol </m:t>
                    </m:r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mo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g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ample Percent Yield Ques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etermine the Percent Yield of this rea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8"/>
              <p:cNvSpPr txBox="1"/>
              <p:nvPr/>
            </p:nvSpPr>
            <p:spPr>
              <a:xfrm>
                <a:off x="2324160" y="2459160"/>
                <a:ext cx="442116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 Yield =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tual Yiel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heoretical Yield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100%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=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g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100%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= 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ercent Yiel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ow do you interpret a Percent Yield greater than 100%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percent yield greater than 100% means that the Actual Yield is </a:t>
            </a:r>
            <a:r>
              <a:rPr b="0" lang="en-US" sz="3200" spc="-1" strike="noStrike">
                <a:solidFill>
                  <a:srgbClr val="cc0000"/>
                </a:solidFill>
                <a:latin typeface="Arial Narrow"/>
              </a:rPr>
              <a:t>falsely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hi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s is most likely due to impurities in the pro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 this example, the impurities could be excess Al or unknown products of side reactions that were not separated out before the final mass was measu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ercent Yiel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reaction is never 100% efficient.  In other wor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ot all of the reactants in a chemical reaction are converted into the predicted products.  The products either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don’t form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or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other products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form in unpredictable “side reactions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Why Calculate Percent Yiel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chemist wants to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nalyze the efficien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a reaction, they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alculate the percent yie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ifferent condi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emperature, pressure, etc. a reacti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fficiency may chan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alculation allows a chemist to compare a reaction under different conditions to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etermi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conditions g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aximum efficien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a re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ercent Yiel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alculation requires two bits of inform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.  Actual Yield - 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The Swe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cc0000"/>
                </a:solidFill>
                <a:latin typeface="Arial"/>
              </a:rPr>
              <a:t>The mass of the product </a:t>
            </a:r>
            <a:r>
              <a:rPr b="0" lang="en-US" sz="2700" spc="-1" strike="noStrike" u="sng">
                <a:solidFill>
                  <a:srgbClr val="cc0000"/>
                </a:solidFill>
                <a:uFillTx/>
                <a:latin typeface="Arial"/>
              </a:rPr>
              <a:t>measured</a:t>
            </a:r>
            <a:r>
              <a:rPr b="0" lang="en-US" sz="2700" spc="-1" strike="noStrike">
                <a:solidFill>
                  <a:srgbClr val="cc0000"/>
                </a:solidFill>
                <a:latin typeface="Arial"/>
              </a:rPr>
              <a:t> in an experime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.  Theoretical Yield - 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The Stoichiomet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cc0000"/>
                </a:solidFill>
                <a:latin typeface="Arial"/>
              </a:rPr>
              <a:t>The mass of the product </a:t>
            </a:r>
            <a:r>
              <a:rPr b="0" lang="en-US" sz="2700" spc="-1" strike="noStrike" u="sng">
                <a:solidFill>
                  <a:srgbClr val="cc0000"/>
                </a:solidFill>
                <a:uFillTx/>
                <a:latin typeface="Arial"/>
              </a:rPr>
              <a:t>calculated</a:t>
            </a:r>
            <a:r>
              <a:rPr b="0" lang="en-US" sz="2700" spc="-1" strike="noStrike">
                <a:solidFill>
                  <a:srgbClr val="cc0000"/>
                </a:solidFill>
                <a:latin typeface="Arial"/>
              </a:rPr>
              <a:t> by stoichiometry – the ideal amou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ercent Yiel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alculate the Percent Yield, use this equ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914400" y="3352680"/>
                <a:ext cx="7238880" cy="10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% Yield =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ual Yiel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 or mo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heoretical Yiel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 or mol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´</m:t>
                    </m:r>
                    <m:r>
                      <m:rPr>
                        <m:lit/>
                        <m:nor/>
                      </m:rPr>
                      <m:t xml:space="preserve"> 100%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pected Percent Yiel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rcent yield is expected to b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ess than 100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there are two reasons for th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Most of the reactants in a reaction don’t have enough energy to re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ome of the reactants may react to form other products in “side reactions” and these products may not be measured in the Actual Yield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ample Percent Yield Ques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Two industrious Chem students mix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15.52 g of Aluminum with 46.75 g o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hlorine gas. When the reaction w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omplete, they found the mass of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product, aluminum chloride, to be 40.58 g.  What was the percent yiel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ample Percent Yield Ques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Two industrious Chem students mixed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15.52 g of Aluminum with 46.75 g of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chlorine gas. When the reaction was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complete, they found the mass of the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product, aluminum chloride, to be </a:t>
            </a:r>
            <a:r>
              <a:rPr b="0" lang="en-US" sz="3300" spc="-1" strike="noStrike">
                <a:solidFill>
                  <a:srgbClr val="cc0000"/>
                </a:solidFill>
                <a:latin typeface="Arial Narrow"/>
              </a:rPr>
              <a:t>40.58 g</a:t>
            </a: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In a stoichiometry question, the mass of the product that is given is the </a:t>
            </a:r>
            <a:r>
              <a:rPr b="0" lang="en-US" sz="3300" spc="-1" strike="noStrike">
                <a:solidFill>
                  <a:srgbClr val="cc0000"/>
                </a:solidFill>
                <a:latin typeface="Arial Narrow"/>
              </a:rPr>
              <a:t>Actual Yield</a:t>
            </a: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ample Percent Yield Ques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ow would you find the actual yield of a reac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You </a:t>
            </a:r>
            <a:r>
              <a:rPr b="0" lang="en-US" sz="3200" spc="-1" strike="noStrike">
                <a:solidFill>
                  <a:srgbClr val="cc0000"/>
                </a:solidFill>
                <a:latin typeface="Arial Narrow"/>
              </a:rPr>
              <a:t>measur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the mass of a produ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 an experi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Actual Yield 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 Narrow"/>
              </a:rPr>
              <a:t>given in the question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8:56:57Z</dcterms:created>
  <dc:creator>Information Services</dc:creator>
  <dc:description/>
  <dc:language>en-US</dc:language>
  <cp:lastModifiedBy>Caitlin</cp:lastModifiedBy>
  <dcterms:modified xsi:type="dcterms:W3CDTF">2012-04-17T03:43:46Z</dcterms:modified>
  <cp:revision>14</cp:revision>
  <dc:subject/>
  <dc:title>Chemistry 11</dc:title>
</cp:coreProperties>
</file>